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0F9-A896-41D3-AF90-84392F6E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AB8-79DB-4F5C-B05C-BB3E6DB3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13C-8969-4041-A97B-7A59C6CC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0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04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65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0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04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179-3C18-4B77-A9E3-FADDE626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1044-7999-45CC-A72B-69B25F09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B040-5B2E-4408-B281-EA2FBDE9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06C5-00BE-4CED-8079-8A93E601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0631-9B26-469A-8CFC-58E5DE70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5227-A809-4E5E-BD38-7707D01D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DF40-69C5-47AE-A090-E272FEA8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BF76-8370-47EC-BA01-39D38AC5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BF8-F58F-4CAF-B87B-690F9F58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64AC-2379-4A98-8B07-297F5097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9EF6-B271-468C-AEF0-E6CED983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67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C84C-231E-467C-AE23-A8A60422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2E1D-2716-4133-B749-D88EEDA5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0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04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6765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0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04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A784-78CB-4A80-B816-92D7365F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95B2-18AB-48EE-B932-D061B04F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A29-60EC-4B90-989C-84019E9F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6CF-2328-4A33-A304-E1EF96C3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19A-4168-418D-B32F-02075E8D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10C-B6AF-4A14-B7C6-2ABD2F8C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6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B6D-2E14-4F87-9A90-31BC324E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5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6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65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5F9-1426-4114-BAC7-11C864B8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A478-441B-47E4-A50D-B1518AA4268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5FCC-03FA-4514-B432-CB328EF55CD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28Z</dcterms:modified>
  <cp:revision>18</cp:revision>
  <dc:subject/>
  <dc:title>幻灯片 1</dc:title>
</cp:coreProperties>
</file>